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5250-8983-49A4-A551-8B7B1A5B82A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1. fa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98D-2709-44FD-8F2E-BA1C2D93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BC9-4CB3-485F-8CBB-CDCB1ACA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63D-0C64-4639-AABA-B645F666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1D4-FC41-47E2-BB2F-75ACE656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552B-03F6-4E96-869C-7D05E86A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6AAA-8B31-4306-8756-EE68AD99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A5E3-28A4-443A-B795-BCD7EE78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0297-CC88-4480-ABF2-9C9E7DB2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E89D-EADB-43A2-9D5F-B96C23F2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1393-2C4E-4E72-8153-E972F230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0519-9894-4686-9211-25531B64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BBE-6B8B-4111-A0C4-5C33A585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B700-861E-48F8-A8DA-7DC2A014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E269-1B17-4CC9-94FA-50EDAFC0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7FD2-E821-4981-B801-608D03D6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C3E5-983D-401F-ADFC-D7285AF0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3E7F-DF22-4D86-91E3-1CF1C71A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F01-4F19-4E6D-9025-5255D93A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8D2-95BE-4B21-9E99-B5E3252F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EFE-1929-4C70-9A8D-8825C728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7F0-E46F-48A8-BA77-E39D576F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0E5-2590-4629-8CA5-C53508B8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2C3-7E56-4ACF-B66A-2002149A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036-7550-48C4-A582-3214D72A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B72D-D17C-48ED-927D-1C46328E5AFD}" type="slidenum">
              <a:rPr b="0" lang="sl-SI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F37F-B911-4F67-B7AB-145A0AE342CA}" type="slidenum">
              <a:rPr b="0" lang="sl-SI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VLOGA RAZISKOVANJA V SOCIALNEM DELU 2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laž Mesec in Liljana Rihter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Razvoj vede SD: 3. faza: avtonomija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File"/>
          <p:cNvSpPr/>
          <p:nvPr/>
        </p:nvSpPr>
        <p:spPr>
          <a:xfrm>
            <a:off x="1979640" y="981000"/>
            <a:ext cx="6408720" cy="5184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4000" y="1125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vtonomij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11280" y="2060640"/>
            <a:ext cx="5761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snovne ved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5300640"/>
            <a:ext cx="5761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aktično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4365720"/>
            <a:ext cx="1727280" cy="576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292640"/>
            <a:ext cx="1728720" cy="647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erativne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aziskav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4365720"/>
            <a:ext cx="1727280" cy="576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rokovn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eminarj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94172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ff99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4941720"/>
            <a:ext cx="216000" cy="358920"/>
          </a:xfrm>
          <a:prstGeom prst="upArrow">
            <a:avLst>
              <a:gd name="adj1" fmla="val 50000"/>
              <a:gd name="adj2" fmla="val 41542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494172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4360" y="2637000"/>
            <a:ext cx="216000" cy="2663640"/>
          </a:xfrm>
          <a:prstGeom prst="downArrow">
            <a:avLst>
              <a:gd name="adj1" fmla="val 50000"/>
              <a:gd name="adj2" fmla="val 138902"/>
            </a:avLst>
          </a:prstGeom>
          <a:solidFill>
            <a:srgbClr val="ffcc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4941720"/>
            <a:ext cx="216000" cy="358920"/>
          </a:xfrm>
          <a:prstGeom prst="upArrow">
            <a:avLst>
              <a:gd name="adj1" fmla="val 50000"/>
              <a:gd name="adj2" fmla="val 41542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2637000"/>
            <a:ext cx="216000" cy="215640"/>
          </a:xfrm>
          <a:prstGeom prst="upArrow">
            <a:avLst>
              <a:gd name="adj1" fmla="val 39704"/>
              <a:gd name="adj2" fmla="val 35296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96360" y="3500280"/>
            <a:ext cx="288720" cy="1800360"/>
          </a:xfrm>
          <a:prstGeom prst="upArrow">
            <a:avLst>
              <a:gd name="adj1" fmla="val 31870"/>
              <a:gd name="adj2" fmla="val 5081"/>
            </a:avLst>
          </a:prstGeom>
          <a:solidFill>
            <a:srgbClr val="ff99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59280" y="450864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36000" y="3429000"/>
            <a:ext cx="504720" cy="216000"/>
          </a:xfrm>
          <a:prstGeom prst="leftArrow">
            <a:avLst>
              <a:gd name="adj1" fmla="val 50000"/>
              <a:gd name="adj2" fmla="val 58417"/>
            </a:avLst>
          </a:prstGeom>
          <a:solidFill>
            <a:srgbClr val="ff99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2637000"/>
            <a:ext cx="144360" cy="863280"/>
          </a:xfrm>
          <a:prstGeom prst="upArrow">
            <a:avLst>
              <a:gd name="adj1" fmla="val 50000"/>
              <a:gd name="adj2" fmla="val 149501"/>
            </a:avLst>
          </a:prstGeom>
          <a:solidFill>
            <a:srgbClr val="ffcc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2852640"/>
            <a:ext cx="4319640" cy="1297080"/>
          </a:xfrm>
          <a:prstGeom prst="rect">
            <a:avLst/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2000" y="3357720"/>
            <a:ext cx="1727280" cy="576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eorija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 metodik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3357720"/>
            <a:ext cx="1727280" cy="576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aziskovanj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temeljno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razvojno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35280" y="2852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veda o socialnem delu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3573360"/>
            <a:ext cx="433440" cy="216000"/>
          </a:xfrm>
          <a:prstGeom prst="leftRightArrow">
            <a:avLst>
              <a:gd name="adj1" fmla="val 50000"/>
              <a:gd name="adj2" fmla="val 3994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1280" y="5950080"/>
            <a:ext cx="505080" cy="142920"/>
          </a:xfrm>
          <a:prstGeom prst="rightArrow">
            <a:avLst>
              <a:gd name="adj1" fmla="val 50000"/>
              <a:gd name="adj2" fmla="val 8835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16360" y="5877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Tahoma"/>
              </a:rPr>
              <a:t>tok informacij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16360" y="26370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93372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6360" y="3933720"/>
            <a:ext cx="216000" cy="358920"/>
          </a:xfrm>
          <a:prstGeom prst="upArrow">
            <a:avLst>
              <a:gd name="adj1" fmla="val 50000"/>
              <a:gd name="adj2" fmla="val 41542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393372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3933720"/>
            <a:ext cx="216000" cy="430200"/>
          </a:xfrm>
          <a:prstGeom prst="upArrow">
            <a:avLst>
              <a:gd name="adj1" fmla="val 50000"/>
              <a:gd name="adj2" fmla="val 49792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16360" y="4076640"/>
            <a:ext cx="215640" cy="1222560"/>
          </a:xfrm>
          <a:prstGeom prst="downArrow">
            <a:avLst>
              <a:gd name="adj1" fmla="val 50000"/>
              <a:gd name="adj2" fmla="val 6386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9647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Razvoj vede SD: 3. faza: avtonomija: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značilnosti faze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92444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SD je stroka in veda hkra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Institucionalizacija SD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učitelji in raziskovalci so po formaciji socialni delavc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temeljne raziskav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Avtonomna strokovna etika kot usmerjevalni dejavnik prevlada nad politik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seben predm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eorij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vojske praktične in raziskovalne metod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nanstvena in strokovna komunikaci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zobraževalne in raziskovalne ustano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sebno ime ved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istematika ved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Poseben predmet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eda o SD proučuje </a:t>
            </a: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rocese samopomoči in pomoči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v primarnih družbenih skupinah; sistem organiziranega socialnega varstva; socialno delo kot posebno pomagajočo stroko ter pogoje, okoliščine, načine izvajanja in učinke njenih intervencij.” (Mesec 1993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Teorije, sprejete v znanstveni skupnosti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eda o SD vsebuje 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več teorij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, npr. psihodinamska, interakcijska, radikalna it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Nobena teorija ni splošno sprejeta kot edino veljavna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Tako je tudi v drugih družboslovnih vedah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Teorije, sprejete v znanstveni skupnosti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25960" y="1600200"/>
            <a:ext cx="26920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Svojske praktične in raziskovalne metode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Posebnost praktične metode: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- posredovanje med osebo (skupino, skupnostjo) v socialn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težavnem položaju in družbenim okoljem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- funkcionalizacija socialne mreže in dostopa do virov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99ff"/>
                </a:solidFill>
                <a:latin typeface="Verdana"/>
              </a:rPr>
              <a:t>Posebnost raziskovalnih metod:</a:t>
            </a: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revzemamo večino metodologije družbenih ve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občemetodološka raven: ni specifičnih pristopov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večji poudarek n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evalvacijskih raziskavah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akcijskih raziskavah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študiji primer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narativnih metodah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Znanstvena in strokovna komunikacija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Pri nas in v svetu obstajaj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Strokovni in znanstveni časopisi: </a:t>
            </a:r>
            <a:r>
              <a:rPr b="0" lang="sl-SI" sz="2400" spc="-1" strike="noStrike">
                <a:solidFill>
                  <a:srgbClr val="00ccff"/>
                </a:solidFill>
                <a:latin typeface="Verdana"/>
              </a:rPr>
              <a:t>Socialno delo, Rejniški glasnik it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Strokovne in znanstvene konference: </a:t>
            </a:r>
            <a:r>
              <a:rPr b="0" lang="sl-SI" sz="2400" spc="-1" strike="noStrike">
                <a:solidFill>
                  <a:srgbClr val="00ccff"/>
                </a:solidFill>
                <a:latin typeface="Verdana"/>
              </a:rPr>
              <a:t>3. kongres socialnih delavk in delavcev Slovenije, Maribor 200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Nacionalni in mednarodni raziskovalni projekti: </a:t>
            </a:r>
            <a:r>
              <a:rPr b="0" lang="sl-SI" sz="2400" spc="-1" strike="noStrike">
                <a:solidFill>
                  <a:srgbClr val="00ccff"/>
                </a:solidFill>
                <a:latin typeface="Verdana"/>
              </a:rPr>
              <a:t>Socialna Slovenija 1993; ciljni razisk. programi: Vrednotenje izvajanja nacionalne strategije na področju drog; LEONARDO: Vključevanje ljudi s težavami v duševnem zdravju…; Zgodovina socialnega dela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 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Znanstvena in strokovna komunikacija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: časopisi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3176640" cy="41148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364000" y="1916280"/>
            <a:ext cx="280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Znanstvena in strokovna komunikacija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: kongresi SD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022720" y="1916280"/>
            <a:ext cx="3510000" cy="4105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563760"/>
            <a:ext cx="91440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: PREGLED TEM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zori o naravi znanstvene osnove S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zvojne faze vede SD pri n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radicionalne formalne zahteve za samostojno ved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va namena raziskovanja v S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loge socialne delavke v odnosu do raziskovanj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280" y="102960"/>
            <a:ext cx="87854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 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Izobraževalne in raziskovalne ustanove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kulteta za socialno del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štitut Republike Slovenije za socialno varstv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kultete za socialno delo drugod po svet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I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zobraževalne in raziskovalne ustanove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195640" y="1903320"/>
            <a:ext cx="53290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Posebno ime vede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ako naj vedo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imenujemo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edmet vede (procesi pomoči in solidarnosti) v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protislovju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z imenom (o socialnem delu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Posebno ime vede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Naziv stroke: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socialno delo, social work, Sozialarbeit, el trabajo socia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Naziv vede: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ccff"/>
                </a:solidFill>
                <a:latin typeface="Verdana"/>
              </a:rPr>
              <a:t>Največ uporabljano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veda o SD, Social work science, Sozialarbeitswissenschaf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ccff"/>
                </a:solidFill>
                <a:latin typeface="Verdana"/>
              </a:rPr>
              <a:t>Drugi predlogi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agogika, socionomika 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ccff"/>
                </a:solidFill>
                <a:latin typeface="Verdana"/>
              </a:rPr>
              <a:t>Predlog (B. Mesec):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sl-SI" sz="2800" spc="-1" strike="noStrike">
                <a:solidFill>
                  <a:srgbClr val="006699"/>
                </a:solidFill>
                <a:latin typeface="Verdana"/>
              </a:rPr>
              <a:t>boetika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(boetologija)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(iz gr. </a:t>
            </a:r>
            <a:r>
              <a:rPr b="0" lang="el-GR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βοήθεια</a:t>
            </a:r>
            <a:r>
              <a:rPr b="0" lang="sl-SI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, 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  <a:ea typeface="Times New Roman"/>
              </a:rPr>
              <a:t>boetheia = pomoč</a:t>
            </a:r>
            <a:r>
              <a:rPr b="0" lang="sl-SI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Posebno ime vede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0" spc="-1" strike="noStrike">
                <a:solidFill>
                  <a:srgbClr val="006699"/>
                </a:solidFill>
                <a:latin typeface="Verdana"/>
              </a:rPr>
              <a:t>boetika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 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Sistematika vede - 1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9640" y="2692080"/>
            <a:ext cx="8073720" cy="2605320"/>
            <a:chOff x="539640" y="2692080"/>
            <a:chExt cx="8073720" cy="2605320"/>
          </a:xfrm>
        </p:grpSpPr>
        <p:cxnSp>
          <p:nvCxnSpPr>
            <p:cNvPr id="307" name="_s57349"/>
            <p:cNvCxnSpPr>
              <a:stCxn id="308" idx="0"/>
              <a:endCxn id="309" idx="2"/>
            </p:cNvCxnSpPr>
            <p:nvPr/>
          </p:nvCxnSpPr>
          <p:spPr>
            <a:xfrm flipV="1">
              <a:off x="4577400" y="3834360"/>
              <a:ext cx="2160" cy="22932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10" name="_s57350"/>
            <p:cNvCxnSpPr>
              <a:stCxn id="311" idx="0"/>
              <a:endCxn id="312" idx="2"/>
            </p:cNvCxnSpPr>
            <p:nvPr/>
          </p:nvCxnSpPr>
          <p:spPr>
            <a:xfrm flipV="1" rot="16200000">
              <a:off x="6124680" y="1600560"/>
              <a:ext cx="229320" cy="3325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13" name="_s57351"/>
            <p:cNvCxnSpPr>
              <a:stCxn id="314" idx="0"/>
              <a:endCxn id="312" idx="2"/>
            </p:cNvCxnSpPr>
            <p:nvPr/>
          </p:nvCxnSpPr>
          <p:spPr>
            <a:xfrm flipV="1" rot="16200000">
              <a:off x="5292720" y="2432520"/>
              <a:ext cx="229320" cy="1661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15" name="_s57352"/>
            <p:cNvCxnSpPr>
              <a:stCxn id="309" idx="0"/>
              <a:endCxn id="312" idx="2"/>
            </p:cNvCxnSpPr>
            <p:nvPr/>
          </p:nvCxnSpPr>
          <p:spPr>
            <a:xfrm flipV="1">
              <a:off x="4577400" y="3148560"/>
              <a:ext cx="2160" cy="22932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16" name="_s57353"/>
            <p:cNvCxnSpPr>
              <a:stCxn id="317" idx="0"/>
              <a:endCxn id="312" idx="2"/>
            </p:cNvCxnSpPr>
            <p:nvPr/>
          </p:nvCxnSpPr>
          <p:spPr>
            <a:xfrm flipH="1" flipV="1" rot="5400000">
              <a:off x="3631320" y="2431800"/>
              <a:ext cx="229320" cy="166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18" name="_s57354"/>
            <p:cNvCxnSpPr>
              <a:stCxn id="319" idx="0"/>
              <a:endCxn id="312" idx="2"/>
            </p:cNvCxnSpPr>
            <p:nvPr/>
          </p:nvCxnSpPr>
          <p:spPr>
            <a:xfrm flipH="1" flipV="1" rot="5400000">
              <a:off x="2800080" y="1600560"/>
              <a:ext cx="229320" cy="3325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312" name="_s57355"/>
            <p:cNvSpPr/>
            <p:nvPr/>
          </p:nvSpPr>
          <p:spPr>
            <a:xfrm>
              <a:off x="3864240" y="2692080"/>
              <a:ext cx="142452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500" spc="-1" strike="noStrike">
                  <a:solidFill>
                    <a:srgbClr val="0000ff"/>
                  </a:solidFill>
                  <a:latin typeface="Tahoma"/>
                </a:rPr>
                <a:t>obča boetika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9" name="_s57356"/>
            <p:cNvSpPr/>
            <p:nvPr/>
          </p:nvSpPr>
          <p:spPr>
            <a:xfrm>
              <a:off x="539640" y="3377880"/>
              <a:ext cx="142416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500" spc="-1" strike="noStrike">
                  <a:solidFill>
                    <a:srgbClr val="0000ff"/>
                  </a:solidFill>
                  <a:latin typeface="Tahoma"/>
                </a:rPr>
                <a:t>boetična etika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7" name="_s57357"/>
            <p:cNvSpPr/>
            <p:nvPr/>
          </p:nvSpPr>
          <p:spPr>
            <a:xfrm>
              <a:off x="2201760" y="3377880"/>
              <a:ext cx="142452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zgodovina b.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9" name="_s57358"/>
            <p:cNvSpPr/>
            <p:nvPr/>
          </p:nvSpPr>
          <p:spPr>
            <a:xfrm>
              <a:off x="3864240" y="3377880"/>
              <a:ext cx="142452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500" spc="-1" strike="noStrike">
                  <a:solidFill>
                    <a:srgbClr val="0000ff"/>
                  </a:solidFill>
                  <a:latin typeface="Tahoma"/>
                </a:rPr>
                <a:t>teorija boetike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4" name="_s57359"/>
            <p:cNvSpPr/>
            <p:nvPr/>
          </p:nvSpPr>
          <p:spPr>
            <a:xfrm>
              <a:off x="5526720" y="3377880"/>
              <a:ext cx="142416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primerjalna b.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" name="_s57360"/>
            <p:cNvSpPr/>
            <p:nvPr/>
          </p:nvSpPr>
          <p:spPr>
            <a:xfrm>
              <a:off x="7188840" y="3377880"/>
              <a:ext cx="142452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metodologija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8" name="_s57361"/>
            <p:cNvSpPr/>
            <p:nvPr/>
          </p:nvSpPr>
          <p:spPr>
            <a:xfrm>
              <a:off x="3816000" y="4063680"/>
              <a:ext cx="151992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500" spc="-1" strike="noStrike">
                  <a:solidFill>
                    <a:srgbClr val="0000ff"/>
                  </a:solidFill>
                  <a:latin typeface="Tahoma"/>
                </a:rPr>
                <a:t>metode boetike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_s1040"/>
            <p:cNvSpPr/>
            <p:nvPr/>
          </p:nvSpPr>
          <p:spPr>
            <a:xfrm>
              <a:off x="539640" y="4840200"/>
              <a:ext cx="151992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500" spc="-1" strike="noStrike">
                  <a:solidFill>
                    <a:srgbClr val="0000ff"/>
                  </a:solidFill>
                  <a:latin typeface="Tahoma"/>
                </a:rPr>
                <a:t>SD s posamezn.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_s1040"/>
            <p:cNvSpPr/>
            <p:nvPr/>
          </p:nvSpPr>
          <p:spPr>
            <a:xfrm>
              <a:off x="7091280" y="4840200"/>
              <a:ext cx="152208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prostovoljno delo</a:t>
              </a:r>
              <a:r>
                <a:rPr b="0" lang="en-US" sz="1500" spc="-1" strike="noStrike">
                  <a:solidFill>
                    <a:srgbClr val="006699"/>
                  </a:solidFill>
                  <a:latin typeface="Tahoma"/>
                </a:rPr>
                <a:t> 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_s1040"/>
            <p:cNvSpPr/>
            <p:nvPr/>
          </p:nvSpPr>
          <p:spPr>
            <a:xfrm>
              <a:off x="3850920" y="4840200"/>
              <a:ext cx="151992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skupnostno SD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_s1040"/>
            <p:cNvSpPr/>
            <p:nvPr/>
          </p:nvSpPr>
          <p:spPr>
            <a:xfrm>
              <a:off x="2195280" y="4840200"/>
              <a:ext cx="152208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SD s skupino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_s1040"/>
            <p:cNvSpPr/>
            <p:nvPr/>
          </p:nvSpPr>
          <p:spPr>
            <a:xfrm>
              <a:off x="5506920" y="4840200"/>
              <a:ext cx="1519920" cy="4572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organizacijsko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in upravno delo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cxnSp>
          <p:nvCxnSpPr>
            <p:cNvPr id="325" name="_s1028"/>
            <p:cNvCxnSpPr/>
            <p:nvPr/>
          </p:nvCxnSpPr>
          <p:spPr>
            <a:xfrm flipV="1">
              <a:off x="4572360" y="4551840"/>
              <a:ext cx="2160" cy="22932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26" name="_s1033"/>
            <p:cNvCxnSpPr/>
            <p:nvPr/>
          </p:nvCxnSpPr>
          <p:spPr>
            <a:xfrm flipH="1" flipV="1" rot="5400000">
              <a:off x="2806920" y="3003840"/>
              <a:ext cx="229320" cy="3325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27" name="_s1029"/>
            <p:cNvCxnSpPr/>
            <p:nvPr/>
          </p:nvCxnSpPr>
          <p:spPr>
            <a:xfrm flipV="1" rot="16200000">
              <a:off x="6118920" y="3004560"/>
              <a:ext cx="229320" cy="3323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28" name="_s1030"/>
            <p:cNvCxnSpPr/>
            <p:nvPr/>
          </p:nvCxnSpPr>
          <p:spPr>
            <a:xfrm flipV="1" rot="16200000">
              <a:off x="5287680" y="3835800"/>
              <a:ext cx="229320" cy="1661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29" name="_s1032"/>
            <p:cNvCxnSpPr/>
            <p:nvPr/>
          </p:nvCxnSpPr>
          <p:spPr>
            <a:xfrm flipH="1" flipV="1" rot="5400000">
              <a:off x="3633120" y="3835080"/>
              <a:ext cx="229320" cy="166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Sistematika vede - 2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66680" y="2701080"/>
            <a:ext cx="7623000" cy="3530520"/>
            <a:chOff x="1066680" y="2701080"/>
            <a:chExt cx="7623000" cy="3530520"/>
          </a:xfrm>
        </p:grpSpPr>
        <p:cxnSp>
          <p:nvCxnSpPr>
            <p:cNvPr id="332" name="_s58373"/>
            <p:cNvCxnSpPr>
              <a:stCxn id="333" idx="0"/>
              <a:endCxn id="334" idx="2"/>
            </p:cNvCxnSpPr>
            <p:nvPr/>
          </p:nvCxnSpPr>
          <p:spPr>
            <a:xfrm flipV="1" rot="16200000">
              <a:off x="6329520" y="1667880"/>
              <a:ext cx="229320" cy="3132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35" name="_s58374"/>
            <p:cNvCxnSpPr>
              <a:stCxn id="336" idx="0"/>
              <a:endCxn id="334" idx="2"/>
            </p:cNvCxnSpPr>
            <p:nvPr/>
          </p:nvCxnSpPr>
          <p:spPr>
            <a:xfrm flipV="1" rot="16200000">
              <a:off x="5546160" y="2451240"/>
              <a:ext cx="229320" cy="1566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37" name="_s58375"/>
            <p:cNvCxnSpPr>
              <a:stCxn id="338" idx="0"/>
              <a:endCxn id="334" idx="2"/>
            </p:cNvCxnSpPr>
            <p:nvPr/>
          </p:nvCxnSpPr>
          <p:spPr>
            <a:xfrm flipV="1">
              <a:off x="4878000" y="3119760"/>
              <a:ext cx="1800" cy="22932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39" name="_s58376"/>
            <p:cNvCxnSpPr>
              <a:stCxn id="340" idx="0"/>
              <a:endCxn id="334" idx="2"/>
            </p:cNvCxnSpPr>
            <p:nvPr/>
          </p:nvCxnSpPr>
          <p:spPr>
            <a:xfrm flipH="1" flipV="1" rot="5400000">
              <a:off x="3980880" y="2451600"/>
              <a:ext cx="229320" cy="1566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41" name="_s58377"/>
            <p:cNvCxnSpPr>
              <a:stCxn id="342" idx="0"/>
              <a:endCxn id="334" idx="2"/>
            </p:cNvCxnSpPr>
            <p:nvPr/>
          </p:nvCxnSpPr>
          <p:spPr>
            <a:xfrm flipH="1" flipV="1" rot="5400000">
              <a:off x="3197880" y="1668600"/>
              <a:ext cx="229320" cy="3131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334" name="_s58378"/>
            <p:cNvSpPr/>
            <p:nvPr/>
          </p:nvSpPr>
          <p:spPr>
            <a:xfrm>
              <a:off x="4177800" y="2701080"/>
              <a:ext cx="1400400" cy="419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0000ff"/>
                  </a:solidFill>
                  <a:latin typeface="Tahoma"/>
                </a:rPr>
                <a:t>posebne boetike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2" name="_s58379"/>
            <p:cNvSpPr/>
            <p:nvPr/>
          </p:nvSpPr>
          <p:spPr>
            <a:xfrm>
              <a:off x="1066680" y="3349440"/>
              <a:ext cx="1361160" cy="5428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z družino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0" name="_s58380"/>
            <p:cNvSpPr/>
            <p:nvPr/>
          </p:nvSpPr>
          <p:spPr>
            <a:xfrm>
              <a:off x="2631960" y="3349440"/>
              <a:ext cx="1361160" cy="5428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v vzgoji in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izobraževanju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8" name="_s58381"/>
            <p:cNvSpPr/>
            <p:nvPr/>
          </p:nvSpPr>
          <p:spPr>
            <a:xfrm>
              <a:off x="4197600" y="3349440"/>
              <a:ext cx="1361160" cy="5428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v socialnem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varstvu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_s58382"/>
            <p:cNvSpPr/>
            <p:nvPr/>
          </p:nvSpPr>
          <p:spPr>
            <a:xfrm>
              <a:off x="5763240" y="3349440"/>
              <a:ext cx="1361160" cy="5428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v zdravstvu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_s58383"/>
            <p:cNvSpPr/>
            <p:nvPr/>
          </p:nvSpPr>
          <p:spPr>
            <a:xfrm>
              <a:off x="7328520" y="3349440"/>
              <a:ext cx="1361160" cy="5428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v organizacijah</a:t>
              </a:r>
              <a:endParaRPr b="0" lang="en-US" sz="1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6680" y="4722840"/>
              <a:ext cx="1404000" cy="4222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z otroki/mladino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19000" y="4722840"/>
              <a:ext cx="1408320" cy="4222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z invalidi</a:t>
              </a:r>
              <a:r>
                <a:rPr b="0" lang="en-US" sz="1500" spc="-1" strike="noStrike">
                  <a:solidFill>
                    <a:srgbClr val="006699"/>
                  </a:solidFill>
                  <a:latin typeface="Tahoma"/>
                </a:rPr>
                <a:t> 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25600" y="4722840"/>
              <a:ext cx="1407240" cy="4222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s starimi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94160" y="4722840"/>
              <a:ext cx="1406880" cy="4222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z odraslimi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5600" y="4722840"/>
              <a:ext cx="1405800" cy="4222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z ženskami/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moškimi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cxnSp>
          <p:nvCxnSpPr>
            <p:cNvPr id="348" name=""/>
            <p:cNvCxnSpPr/>
            <p:nvPr/>
          </p:nvCxnSpPr>
          <p:spPr>
            <a:xfrm flipV="1">
              <a:off x="4791600" y="4456440"/>
              <a:ext cx="1800" cy="21168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49" name=""/>
            <p:cNvCxnSpPr/>
            <p:nvPr/>
          </p:nvCxnSpPr>
          <p:spPr>
            <a:xfrm flipH="1" flipV="1" rot="5400000">
              <a:off x="3187080" y="3000240"/>
              <a:ext cx="211680" cy="3074040"/>
            </a:xfrm>
            <a:prstGeom prst="bentConnector3">
              <a:avLst>
                <a:gd name="adj1" fmla="val 49914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50" name=""/>
            <p:cNvCxnSpPr/>
            <p:nvPr/>
          </p:nvCxnSpPr>
          <p:spPr>
            <a:xfrm flipV="1" rot="16200000">
              <a:off x="6220080" y="3027600"/>
              <a:ext cx="211680" cy="3068640"/>
            </a:xfrm>
            <a:prstGeom prst="bentConnector3">
              <a:avLst>
                <a:gd name="adj1" fmla="val 49914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51" name=""/>
            <p:cNvCxnSpPr/>
            <p:nvPr/>
          </p:nvCxnSpPr>
          <p:spPr>
            <a:xfrm flipV="1" rot="16200000">
              <a:off x="5479560" y="3769200"/>
              <a:ext cx="211680" cy="1536120"/>
            </a:xfrm>
            <a:prstGeom prst="bentConnector3">
              <a:avLst>
                <a:gd name="adj1" fmla="val 49914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352" name=""/>
            <p:cNvCxnSpPr/>
            <p:nvPr/>
          </p:nvCxnSpPr>
          <p:spPr>
            <a:xfrm flipH="1" flipV="1" rot="5400000">
              <a:off x="3914640" y="3767400"/>
              <a:ext cx="211680" cy="1539720"/>
            </a:xfrm>
            <a:prstGeom prst="bentConnector3">
              <a:avLst>
                <a:gd name="adj1" fmla="val 49914"/>
              </a:avLst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353" name=""/>
            <p:cNvSpPr/>
            <p:nvPr/>
          </p:nvSpPr>
          <p:spPr>
            <a:xfrm>
              <a:off x="3058560" y="5805000"/>
              <a:ext cx="1404360" cy="4222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z revnimi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02920" y="5805000"/>
              <a:ext cx="1421280" cy="4266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z odvisnimi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16000" y="5805000"/>
              <a:ext cx="1420200" cy="4266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z brezdomci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1640" y="5805000"/>
              <a:ext cx="1422720" cy="4266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Tahoma"/>
                </a:rPr>
                <a:t>s prestopniki</a:t>
              </a:r>
              <a:endParaRPr b="0" lang="en-US" sz="15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971640" y="2060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Glede na področje v upravni razdelitvi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71640" y="400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Glede na razvojno obdobje, biološke značilnosti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522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Tahoma"/>
              </a:rPr>
              <a:t>Glede na problematiko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br>
              <a:rPr sz="2400"/>
            </a:br>
            <a:r>
              <a:rPr b="1" lang="sl-SI" sz="2400" spc="-1" strike="noStrike">
                <a:solidFill>
                  <a:srgbClr val="006666"/>
                </a:solidFill>
                <a:latin typeface="Verdana"/>
              </a:rPr>
              <a:t>Odnos do drugih ved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File"/>
          <p:cNvSpPr/>
          <p:nvPr/>
        </p:nvSpPr>
        <p:spPr>
          <a:xfrm>
            <a:off x="1116000" y="1341360"/>
            <a:ext cx="7416720" cy="532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27200" y="90792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socialno delo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1773360"/>
            <a:ext cx="496908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osnovne in mejne ve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sihologija, sociologija, pravo, pedagogik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5084640"/>
            <a:ext cx="4969080" cy="86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praktično socialno del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nudenje pomoči in razvijanje samopomoči in solidarnost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48000" y="3429000"/>
            <a:ext cx="3384720" cy="865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Strokovne/metodične ve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eorije pomoči, SD z družino, osebna pomoč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6000" y="2781360"/>
            <a:ext cx="216000" cy="718920"/>
          </a:xfrm>
          <a:prstGeom prst="downArrow">
            <a:avLst>
              <a:gd name="adj1" fmla="val 50000"/>
              <a:gd name="adj2" fmla="val 8320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56000" y="4292640"/>
            <a:ext cx="216000" cy="718920"/>
          </a:xfrm>
          <a:prstGeom prst="downArrow">
            <a:avLst>
              <a:gd name="adj1" fmla="val 50000"/>
              <a:gd name="adj2" fmla="val 8320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92720" y="2781360"/>
            <a:ext cx="216000" cy="647640"/>
          </a:xfrm>
          <a:prstGeom prst="upArrow">
            <a:avLst>
              <a:gd name="adj1" fmla="val 50000"/>
              <a:gd name="adj2" fmla="val 7495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92720" y="4292640"/>
            <a:ext cx="216000" cy="647640"/>
          </a:xfrm>
          <a:prstGeom prst="upArrow">
            <a:avLst>
              <a:gd name="adj1" fmla="val 50000"/>
              <a:gd name="adj2" fmla="val 7495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br>
              <a:rPr sz="2400"/>
            </a:br>
            <a:r>
              <a:rPr b="1" lang="sl-SI" sz="2400" spc="-1" strike="noStrike">
                <a:solidFill>
                  <a:srgbClr val="006666"/>
                </a:solidFill>
                <a:latin typeface="Verdana"/>
              </a:rPr>
              <a:t>Odnos do drugih ved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1" name="File"/>
          <p:cNvSpPr/>
          <p:nvPr/>
        </p:nvSpPr>
        <p:spPr>
          <a:xfrm>
            <a:off x="1116000" y="1628640"/>
            <a:ext cx="7416720" cy="5040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44400" y="119700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edagogik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1773360"/>
            <a:ext cx="525636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osnovne in mejne ve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sihologija, sociologija, filozofi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84360" y="5013360"/>
            <a:ext cx="5040360" cy="936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Vzgojno in izobraževalno del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Vzgajanje, poučevanje, habilitaci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03640" y="3429000"/>
            <a:ext cx="3744720" cy="865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Strokovne/metodične ve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eorija vzgoje, didaktika, posebne metodik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56000" y="2781360"/>
            <a:ext cx="216000" cy="718920"/>
          </a:xfrm>
          <a:prstGeom prst="downArrow">
            <a:avLst>
              <a:gd name="adj1" fmla="val 50000"/>
              <a:gd name="adj2" fmla="val 8320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56000" y="4292640"/>
            <a:ext cx="216000" cy="718920"/>
          </a:xfrm>
          <a:prstGeom prst="downArrow">
            <a:avLst>
              <a:gd name="adj1" fmla="val 50000"/>
              <a:gd name="adj2" fmla="val 8320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92720" y="2781360"/>
            <a:ext cx="216000" cy="647640"/>
          </a:xfrm>
          <a:prstGeom prst="upArrow">
            <a:avLst>
              <a:gd name="adj1" fmla="val 50000"/>
              <a:gd name="adj2" fmla="val 7495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92720" y="4292640"/>
            <a:ext cx="216000" cy="647640"/>
          </a:xfrm>
          <a:prstGeom prst="upArrow">
            <a:avLst>
              <a:gd name="adj1" fmla="val 50000"/>
              <a:gd name="adj2" fmla="val 7495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VLOGA RAZISKOVANJA V SOCIALNEM DELU </a:t>
            </a:r>
            <a:br>
              <a:rPr sz="2800"/>
            </a:b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br>
              <a:rPr sz="2400"/>
            </a:br>
            <a:r>
              <a:rPr b="1" lang="sl-SI" sz="2400" spc="-1" strike="noStrike">
                <a:solidFill>
                  <a:srgbClr val="006666"/>
                </a:solidFill>
                <a:latin typeface="Verdana"/>
              </a:rPr>
              <a:t>Odnos do drugih ved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1" name="File"/>
          <p:cNvSpPr/>
          <p:nvPr/>
        </p:nvSpPr>
        <p:spPr>
          <a:xfrm>
            <a:off x="1116000" y="1341360"/>
            <a:ext cx="7416720" cy="532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614600" y="90792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medicin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11280" y="1773360"/>
            <a:ext cx="518508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osnovne in mejne ve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izika, kemija, biologi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56000" y="5013360"/>
            <a:ext cx="5040360" cy="936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Praktična medicin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reprečevanje in zdravljenj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87640" y="3429000"/>
            <a:ext cx="4032360" cy="865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Strokovne vede = klinične ve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ediatrija, kardiologija, ortopedij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2781360"/>
            <a:ext cx="216000" cy="718920"/>
          </a:xfrm>
          <a:prstGeom prst="downArrow">
            <a:avLst>
              <a:gd name="adj1" fmla="val 50000"/>
              <a:gd name="adj2" fmla="val 8320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4292640"/>
            <a:ext cx="216000" cy="718920"/>
          </a:xfrm>
          <a:prstGeom prst="downArrow">
            <a:avLst>
              <a:gd name="adj1" fmla="val 50000"/>
              <a:gd name="adj2" fmla="val 8320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92720" y="2781360"/>
            <a:ext cx="216000" cy="647640"/>
          </a:xfrm>
          <a:prstGeom prst="upArrow">
            <a:avLst>
              <a:gd name="adj1" fmla="val 50000"/>
              <a:gd name="adj2" fmla="val 7495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92720" y="4292640"/>
            <a:ext cx="216000" cy="647640"/>
          </a:xfrm>
          <a:prstGeom prst="upArrow">
            <a:avLst>
              <a:gd name="adj1" fmla="val 50000"/>
              <a:gd name="adj2" fmla="val 7495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5634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ZORI O NARAVI ZNANSTVENE OSNOVE S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cialno delo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ni posebna veda, je stro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opiranje na posamezno vedo (pedagogika, psihologija, pravo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interdisciplinarna osnov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 Socialno delo j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osebna veda in stro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hkrati posebna praktična dejavnost in posebna teoretična dejavno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138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VLOGA RAZISKOVANJA V SOCIALNEM DELU </a:t>
            </a:r>
            <a:br>
              <a:rPr sz="2800"/>
            </a:b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br>
              <a:rPr sz="2400"/>
            </a:br>
            <a:r>
              <a:rPr b="1" lang="sl-SI" sz="2400" spc="-1" strike="noStrike">
                <a:solidFill>
                  <a:srgbClr val="006666"/>
                </a:solidFill>
                <a:latin typeface="Verdana"/>
              </a:rPr>
              <a:t>Odnos do drugih ved: sklep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eda o socialnem delu (boetika) po strukturi odnosa med osnovnimi vedami, strokovnimi vedami in prakso, kar se odraža v sestavi predmetnikov,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odobna drugim vedam o ravnanju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(npr. pedagogiki, medicini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Vede o ravnanju </a:t>
            </a:r>
            <a:r>
              <a:rPr b="0" lang="sl-SI" sz="2800" spc="-1" strike="noStrike">
                <a:solidFill>
                  <a:srgbClr val="cc99ff"/>
                </a:solidFill>
                <a:latin typeface="Verdana"/>
              </a:rPr>
              <a:t>proučujejo</a:t>
            </a:r>
            <a:r>
              <a:rPr b="0" lang="sl-SI" sz="2800" spc="-1" strike="noStrike">
                <a:solidFill>
                  <a:srgbClr val="006699"/>
                </a:solidFill>
                <a:latin typeface="Verdana"/>
              </a:rPr>
              <a:t> smotrno človeško dejavnost na določenem posebnem področju; strukturna podobnost odnosa med teorijo in praks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l-SI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Tradicionalne formalne zahteve za samostojno vedo</a:t>
            </a:r>
            <a:br>
              <a:rPr sz="2400"/>
            </a:br>
            <a:r>
              <a:rPr b="1" lang="sl-SI" sz="2400" spc="-1" strike="noStrike">
                <a:solidFill>
                  <a:srgbClr val="006666"/>
                </a:solidFill>
                <a:latin typeface="Verdana"/>
              </a:rPr>
              <a:t>Odnos do drugih ved: sklep</a:t>
            </a:r>
            <a:r>
              <a:rPr b="0" lang="sl-SI" sz="36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1989000"/>
            <a:ext cx="849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Tahoma"/>
              </a:rPr>
              <a:t>Vede o pojavi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Tahoma"/>
              </a:rPr>
              <a:t>psihologija, sociologija, antropologija, naravoslovne ved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Tahoma"/>
              </a:rPr>
              <a:t>Vede o smotrnem ravnanju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99ff"/>
                </a:solidFill>
                <a:latin typeface="Tahoma"/>
              </a:rPr>
              <a:t>(tehnološke v., </a:t>
            </a:r>
            <a:r>
              <a:rPr b="0" lang="el-GR" sz="28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τέχνη</a:t>
            </a:r>
            <a:r>
              <a:rPr b="0" lang="sl-SI" sz="28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 = </a:t>
            </a:r>
            <a:r>
              <a:rPr b="0" lang="sl-SI" sz="2800" spc="-1" strike="noStrike">
                <a:solidFill>
                  <a:srgbClr val="cc99ff"/>
                </a:solidFill>
                <a:latin typeface="Tahoma"/>
                <a:ea typeface="Times New Roman"/>
              </a:rPr>
              <a:t>veščina</a:t>
            </a:r>
            <a:r>
              <a:rPr b="0" lang="sl-SI" sz="2800" spc="-1" strike="noStrike">
                <a:solidFill>
                  <a:srgbClr val="cc99ff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Tahoma"/>
              </a:rPr>
              <a:t>tehnične vede, medicina, pravo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99"/>
                </a:solidFill>
                <a:latin typeface="Tahoma"/>
              </a:rPr>
              <a:t>pedagogika, organizacijske vede, veda o upravi, policijska veda, </a:t>
            </a:r>
            <a:r>
              <a:rPr b="0" lang="sl-SI" sz="2800" spc="-1" strike="noStrike">
                <a:solidFill>
                  <a:srgbClr val="00ccff"/>
                </a:solidFill>
                <a:latin typeface="Tahoma"/>
              </a:rPr>
              <a:t>veda o socialnem delu (boetika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Dva namena raziskovanja v SD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Operativno raziskovanje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zbrati podatke, za izvedbo </a:t>
            </a:r>
            <a:r>
              <a:rPr b="0" lang="en-US" sz="3200" spc="-1" strike="noStrike">
                <a:solidFill>
                  <a:srgbClr val="00ccff"/>
                </a:solidFill>
                <a:latin typeface="Verdana"/>
              </a:rPr>
              <a:t>praktičneg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ukrepa (ugotoviti potrebe mladih v občini glede preživljanja prostega časa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Temeljno raziskovanje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zbrati podatke za </a:t>
            </a:r>
            <a:r>
              <a:rPr b="0" lang="en-US" sz="3200" spc="-1" strike="noStrike">
                <a:solidFill>
                  <a:srgbClr val="00ccff"/>
                </a:solidFill>
                <a:latin typeface="Verdana"/>
              </a:rPr>
              <a:t>ovrednotenje ukrep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ali metode (v primerjavi z alternativnimi metodami), npr. primerjalna evalvacijska raziskava pomoči na domu v različnih okoljih – </a:t>
            </a:r>
            <a:r>
              <a:rPr b="0" lang="en-US" sz="3200" spc="-1" strike="noStrike">
                <a:solidFill>
                  <a:srgbClr val="00ccff"/>
                </a:solidFill>
                <a:latin typeface="Verdana"/>
              </a:rPr>
              <a:t>oblikovanje sistematične teorije socialnega del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102960"/>
            <a:ext cx="88930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 Vloge socialnega delavca v odnosu do raziskovanja</a:t>
            </a:r>
            <a:br>
              <a:rPr sz="2400"/>
            </a:br>
            <a:r>
              <a:rPr b="0" lang="sl-SI" sz="2400" spc="-1" strike="noStrike">
                <a:solidFill>
                  <a:srgbClr val="006666"/>
                </a:solidFill>
                <a:latin typeface="Verdana"/>
              </a:rPr>
              <a:t>(po Ackoff 1966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Uporabnik spoznan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Raziskovale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Zbiralec podatko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Dajalec podatkov, opazovane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Vloge socialnega delavca v odnosu do raziskovanja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 Uporabnik spoznanj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ma probl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oroči problem raziskovalc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uči raziskovalne ugotovit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 odloči za praktičen ukre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Vloge socialnega delavca v odnosu do raziskovanja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 Raziskovalec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črtuje raziskav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posobi opazovalce (zbiralce podatkov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alizira zbrane podat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zdela poročilo in z njim seznani uporabnik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Vloge socialnega delavca v odnosu do raziskovanja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 Opazovalec (zbiralec podatkov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dide na teren k informanto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Opazuje, sprašu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Beleži odgovo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enese podatke raziskovalc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Vloge socialnega delavca v odnosu do raziskovanja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 Dajalec podatkov (spraševanec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 odloči za sodelovanje v raziskav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dgovarja, daje podatke, se pusti opazova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AZORI O NARAVI ZNANSTVENE OSNOVE SD: argument za samostojno ved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treba po dejavnosti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za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posredovanj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med drugimi vedami in praktičnim SD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i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izbira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relevantna znanja drugih ved, jih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povež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med seboj in z raziskovalnimi ugotovitvami o problemih in praksi SD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ki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izdeluje smernic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za praktično S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gotovitev: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i take vede - potrebujemo posebno, avtonomno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vedo o S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6699"/>
                </a:solidFill>
                <a:latin typeface="Verdana"/>
              </a:rPr>
              <a:t>RAZVOJNE FAZE VEDE O SD PRI NAS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6699"/>
                </a:solidFill>
                <a:latin typeface="Verdana"/>
              </a:rPr>
              <a:t>Faza odvisnosti (do cca. 1980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6699"/>
                </a:solidFill>
                <a:latin typeface="Verdana"/>
              </a:rPr>
              <a:t>Faza osamosvajanja (1980-1995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6699"/>
                </a:solidFill>
                <a:latin typeface="Verdana"/>
              </a:rPr>
              <a:t>Faza avtonomije (1995 dalje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8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Razvoj vede SD: 1. faza: odvisnost - podrejenost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File"/>
          <p:cNvSpPr/>
          <p:nvPr/>
        </p:nvSpPr>
        <p:spPr>
          <a:xfrm>
            <a:off x="1979640" y="1052640"/>
            <a:ext cx="6408720" cy="5184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1125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odvisno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2060640"/>
            <a:ext cx="5761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snovne ved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300640"/>
            <a:ext cx="5761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aktično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414972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24360" y="414972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erativne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naliz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71640" y="414972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rokovn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eminarj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3068640"/>
            <a:ext cx="1944720" cy="649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predmet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metodik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3640" y="2637000"/>
            <a:ext cx="288720" cy="1512720"/>
          </a:xfrm>
          <a:prstGeom prst="downArrow">
            <a:avLst>
              <a:gd name="adj1" fmla="val 32352"/>
              <a:gd name="adj2" fmla="val 65978"/>
            </a:avLst>
          </a:prstGeom>
          <a:solidFill>
            <a:srgbClr val="ffcc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79736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2637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cc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76720" y="3716280"/>
            <a:ext cx="216000" cy="1584360"/>
          </a:xfrm>
          <a:prstGeom prst="downArrow">
            <a:avLst>
              <a:gd name="adj1" fmla="val 50000"/>
              <a:gd name="adj2" fmla="val 183375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04000" y="3357720"/>
            <a:ext cx="216000" cy="790560"/>
          </a:xfrm>
          <a:prstGeom prst="upArrow">
            <a:avLst>
              <a:gd name="adj1" fmla="val 50000"/>
              <a:gd name="adj2" fmla="val 2491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04000" y="479736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4365720"/>
            <a:ext cx="1008000" cy="215640"/>
          </a:xfrm>
          <a:prstGeom prst="leftArrow">
            <a:avLst>
              <a:gd name="adj1" fmla="val 50000"/>
              <a:gd name="adj2" fmla="val 116861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56360" y="479736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5280" y="3357720"/>
            <a:ext cx="865440" cy="14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08360" y="3357720"/>
            <a:ext cx="216000" cy="7920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2637000"/>
            <a:ext cx="432000" cy="2663640"/>
          </a:xfrm>
          <a:prstGeom prst="downArrow">
            <a:avLst>
              <a:gd name="adj1" fmla="val 25000"/>
              <a:gd name="adj2" fmla="val 55321"/>
            </a:avLst>
          </a:prstGeom>
          <a:solidFill>
            <a:srgbClr val="ffcc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3640" y="479736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3284640"/>
            <a:ext cx="720720" cy="287280"/>
          </a:xfrm>
          <a:prstGeom prst="leftArrow">
            <a:avLst>
              <a:gd name="adj1" fmla="val 50000"/>
              <a:gd name="adj2" fmla="val 62719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6360" y="5877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Tahoma"/>
              </a:rPr>
              <a:t>tok informacij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950080"/>
            <a:ext cx="505080" cy="142920"/>
          </a:xfrm>
          <a:prstGeom prst="rightArrow">
            <a:avLst>
              <a:gd name="adj1" fmla="val 50000"/>
              <a:gd name="adj2" fmla="val 8835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Razvoj vede SD: 1. faza: odvisnost – podrejenost: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značilnosti faze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D je zgolj stro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Individualna integracija znan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Ni temeljnih raziska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Dualizem: akademiki – praktik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Politika prevladuje nad strokovno etik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896472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Razvoj vede SD: 2. faza: osamosvajanje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File"/>
          <p:cNvSpPr/>
          <p:nvPr/>
        </p:nvSpPr>
        <p:spPr>
          <a:xfrm>
            <a:off x="1979640" y="981000"/>
            <a:ext cx="6408720" cy="5184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1125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osamosvajanj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11280" y="2060640"/>
            <a:ext cx="5761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snovne ved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40000" y="5300640"/>
            <a:ext cx="5761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aktično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59280" y="4149720"/>
            <a:ext cx="1225440" cy="647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19640" y="414972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operativne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aziskav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59280" y="4149720"/>
            <a:ext cx="1800000" cy="647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trokovn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seminarji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71640" y="3068640"/>
            <a:ext cx="1944720" cy="649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eorija SD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48000" y="479736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ff99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2637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cc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479736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479736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2637000"/>
            <a:ext cx="216000" cy="2663640"/>
          </a:xfrm>
          <a:prstGeom prst="downArrow">
            <a:avLst>
              <a:gd name="adj1" fmla="val 50000"/>
              <a:gd name="adj2" fmla="val 138902"/>
            </a:avLst>
          </a:prstGeom>
          <a:solidFill>
            <a:srgbClr val="ffcc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479736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3716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ff99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3716280"/>
            <a:ext cx="216000" cy="432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95640" y="2637000"/>
            <a:ext cx="216000" cy="431640"/>
          </a:xfrm>
          <a:prstGeom prst="upArrow">
            <a:avLst>
              <a:gd name="adj1" fmla="val 50000"/>
              <a:gd name="adj2" fmla="val 4995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67640" y="3357720"/>
            <a:ext cx="289080" cy="1942920"/>
          </a:xfrm>
          <a:prstGeom prst="upArrow">
            <a:avLst>
              <a:gd name="adj1" fmla="val 31870"/>
              <a:gd name="adj2" fmla="val 5632"/>
            </a:avLst>
          </a:prstGeom>
          <a:solidFill>
            <a:srgbClr val="ff99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64000" y="3068640"/>
            <a:ext cx="1944720" cy="649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temeljn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raziskav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24360" y="2637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cc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2637000"/>
            <a:ext cx="215640" cy="43164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16360" y="321300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3429000"/>
            <a:ext cx="647640" cy="216000"/>
          </a:xfrm>
          <a:prstGeom prst="leftArrow">
            <a:avLst>
              <a:gd name="adj1" fmla="val 50000"/>
              <a:gd name="adj2" fmla="val 74958"/>
            </a:avLst>
          </a:prstGeom>
          <a:solidFill>
            <a:srgbClr val="ff99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59280" y="436572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08720" y="3284640"/>
            <a:ext cx="503280" cy="215640"/>
          </a:xfrm>
          <a:prstGeom prst="leftArrow">
            <a:avLst>
              <a:gd name="adj1" fmla="val 50000"/>
              <a:gd name="adj2" fmla="val 58347"/>
            </a:avLst>
          </a:prstGeom>
          <a:solidFill>
            <a:srgbClr val="ff99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40720" y="2637000"/>
            <a:ext cx="144360" cy="720720"/>
          </a:xfrm>
          <a:prstGeom prst="upArrow">
            <a:avLst>
              <a:gd name="adj1" fmla="val 50000"/>
              <a:gd name="adj2" fmla="val 124813"/>
            </a:avLst>
          </a:prstGeom>
          <a:solidFill>
            <a:srgbClr val="ffcc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5950080"/>
            <a:ext cx="505080" cy="142920"/>
          </a:xfrm>
          <a:prstGeom prst="rightArrow">
            <a:avLst>
              <a:gd name="adj1" fmla="val 50000"/>
              <a:gd name="adj2" fmla="val 8835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16360" y="5877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Tahoma"/>
              </a:rPr>
              <a:t>tok informacij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43280" y="3716280"/>
            <a:ext cx="216000" cy="1584360"/>
          </a:xfrm>
          <a:prstGeom prst="downArrow">
            <a:avLst>
              <a:gd name="adj1" fmla="val 50000"/>
              <a:gd name="adj2" fmla="val 82621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24360" y="3716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3716280"/>
            <a:ext cx="215640" cy="433440"/>
          </a:xfrm>
          <a:prstGeom prst="upArrow">
            <a:avLst>
              <a:gd name="adj1" fmla="val 50000"/>
              <a:gd name="adj2" fmla="val 5025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VLOGA RAZISKOVANJA V SOCIALNEM DELU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Razvoj vede SD: 2. faza: osamosvajanje: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značilnosti faze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Vzpostavi se sistem komunikacij o strok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Začne se proces sistemizacije - integracija posebnih znanj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Integracija znanj je kolektiven pos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Začetek kritičnega temeljnega razisko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3:44Z</dcterms:created>
  <dc:creator>Liljana Rihter</dc:creator>
  <dc:description/>
  <dc:language>en-US</dc:language>
  <cp:lastModifiedBy>Liljana Rihter</cp:lastModifiedBy>
  <dcterms:modified xsi:type="dcterms:W3CDTF">2008-10-14T09:30:10Z</dcterms:modified>
  <cp:revision>15</cp:revision>
  <dc:subject/>
  <dc:title>Diapozitiv 1</dc:title>
</cp:coreProperties>
</file>